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F626FB2A-B6DE-4F62-AFC2-3EEB98397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AE547CDB-8820-40FF-AE94-746DEA50931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AE6938B1-BB5F-468A-AF0B-86804E56F20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E8DB65C1-58D1-4267-8453-C65AB977E5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ADCB0030-B547-4384-BEC9-0DC23E4FF3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B96CA680-F5D4-48A7-A2E4-4291251F7B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EB6-B6A4-4F28-8A68-6337857A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98F-371E-4674-9EEF-D3C501C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80365-32F5-4B9C-B94B-5B4CD12F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61A78-F7E2-4418-82AF-C6C479F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ACF29-31BE-4C7A-9953-74E9ADC2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F18CF-10FB-415F-A6C8-D5C4E26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C0C1-E185-4F5C-9DD6-43A30DA1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D6AB3-CA92-49BA-9B4B-CB9E49E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BCB24-EE59-4E26-8B19-FCDA3F0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E3E21-2BE3-45C5-9DC6-AEBA1E8C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6BFEE-A14C-4A6E-A7B5-5454D11B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85B7E-881A-4A26-96B8-AB6457C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590-392D-4EB6-BDE1-3D74AD64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8A89-D374-4495-B2F6-C298250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2E50D-F2EC-44A7-BDB7-7F06C2B8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6AD7D-BF64-4533-A459-9F9480C3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AEFB7-0D7F-4BEA-94AE-7C715DA9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8F017-94AB-4CE5-9535-C900BFE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E612B-34ED-4C08-ABF1-D774DE6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91C59-A983-4B3B-98EA-3229453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42618-9704-49DF-BE37-5F50D2E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461CB-703F-4113-AB07-D3233C93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4E8FF-845B-49B0-913C-80E442DD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278-3445-47C0-BDFD-DC48F1DF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5D5FF-CA9E-4FFD-B38F-21505015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93C2-66D3-4BE9-8C0F-C21D6220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C984B-8C29-4B05-9198-40B14B0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5BEC1-91B8-458A-82AB-183A184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D997-8ED7-4885-B9C8-27BF2CC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1291C-2B5F-4AC4-BF86-28ECBD2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F4E9-D877-4096-8FFE-77FD3456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F3303-218B-48EE-83EB-50668BB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95447-7342-4FE9-8500-C7B7FED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65ED9-5FBA-4516-BFF4-6BD4177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48AC-7FEB-41E1-92E0-770DF7EB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2DF2F-BB2C-49F9-AEAF-2122393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16BE8-600B-4F2A-82A6-B2954A59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02B3-32A9-4199-9415-B17CE353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1AA69-F17F-4F42-8E5C-5FDA18B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1EED7-793B-496F-A374-05CC2A1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29C21-D32D-4496-9755-26DFEDD9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A7CD8-1F8F-4125-B176-F7FDDA65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15E25-7497-442A-8EF6-A0D4AB4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858EA-CDC9-4F0E-BF2C-424009C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56D3C-7EF4-4E95-8FF7-EE28B2A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A2F3-EC90-469D-88B9-13A7341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65F4-A3AF-4267-8728-DA711F1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41945-864B-4635-B06F-4A35C4D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9A37C-5AFB-467A-A1FC-AD1BE9E9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D8575-E3BE-428C-B408-4EA8BBA3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D92B-5BA0-4C16-A560-D42B0AE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3C8-FAEE-4E32-92FE-737670E9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997D-508B-4C00-BAEF-8D6E1732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1F5-A1E0-4689-9885-F32B3FBA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C24-B940-4F6A-A502-6F6D695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907-6C03-469C-896E-93D115D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B07-1EA0-4AB7-B585-129812B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CA6-0735-49B5-B4D0-F338FA78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427-41AF-4F27-A985-2C49B3F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774A-6A6E-417F-BC0E-5D6013F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BBD-E44D-4767-8090-7F9DA5A2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875-2961-46AA-8D47-A5A368AF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4DB0-D60D-4A82-88F2-FB0D5B2E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72AF-71D4-4566-B22B-64A3AB3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3393-81EF-4753-8314-49D5821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F458-8FF1-4C2F-93E6-FAD079CF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5948-A3FA-4B9D-BA62-85C35D4B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E3C-1104-4E33-94EF-75FB87D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60C1-726C-4F66-885B-38C1FC02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277A-459F-4C1B-BA2F-602B7A6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252B-4B1C-45A7-871C-B37F2C6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E4D1-4ED2-4EDA-913A-FC05752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53C0-763D-44BD-81CC-502D178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876E-AB1E-4686-B0D0-88A585C3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DDB8-2B86-4DD2-AF53-5AD32569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7B08-E5A3-4A1A-8316-359F6CA4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E663-4E40-4CA2-9607-8F5B1CF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6602-6508-45EF-96B6-A7CA80E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0E2-DBA7-4ECF-AC7E-59DF3ED1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E75B8-22DF-426D-A83A-DC07602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C22E-0A73-4780-8F3F-9890086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52F2-0021-4AD7-A4F3-2E2C1C3E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0244-EF1A-481A-8F23-45C7E1B0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A4C5-4D9D-4217-A04A-95140BE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494B-98FF-42EA-8718-D6FC71B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B992-BA17-4004-8CFB-61B77AAA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24DC-88AC-4294-AFD8-8D6396BB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4053-9AA4-47E4-9A28-9A546999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98CC-256E-4932-B114-E4CA304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620-A293-4586-860A-9BE4DD5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982E-2A8D-4173-B46D-750329A9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938A-780B-4178-8B61-98E065D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7D5C-6FDB-4F3D-8158-6491B85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4D1B-E9DE-4DC7-AA79-98BE057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2D45-E7CF-4B0C-B940-8515D2F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0E4C-FFDC-41C9-86BF-D058A2C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57D3-43A2-4555-AA5D-6D8BCE5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1BF4-B061-41A2-A687-BDF3443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306B-400D-44F1-9E0C-DA25FC7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4F02-2CDC-4BFE-B4E9-5F5C4CA1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674-3D9F-414D-A177-2DB8EA65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4F91-2D8B-4E4A-9057-AEAB7FD0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48D3-58E9-42F4-8E1F-324B5B85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BD870-6466-470A-B521-DD42075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CDB0-DB33-46DC-B981-0DA399B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AC99-14CA-47CC-AE3A-DBDBB685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EAD3-8ABE-409F-96A6-E4810494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C936-9A92-41B5-80D3-EC2E810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6261-C32C-4038-A2D3-D9F98D6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C827-818F-45CF-846C-C145106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2960-D42F-4E9E-9ED2-73DDB82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619-4B4C-4534-A85C-EF407A2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5D0B-9E8D-49C6-AA14-4C428B3A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22C3-A71C-49A3-9210-A0F53E8F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17F1-CF7C-4DD1-99D3-62ECC040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933F-73D6-4E53-A10C-A5896C3A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DB66-B681-4E13-83CD-28E363D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ABC4-F422-4266-85E2-533B894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4137F-33CD-4A41-B726-FBF0047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52DB-24F9-4A4D-AC42-80F20A3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DDDA-CAD6-4937-B9F0-9B221B82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7D89-4DB5-4432-A6D8-10C7B2C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B45-641E-4477-8E7F-5A6FB86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0C89D-70E0-4237-985A-FD611E3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0606-EA72-4662-86FE-EDC61D3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8A5D-13B7-4F17-9B86-B8C1168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0DDB-8F91-4C20-8265-950B1533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88103-C5A2-41FF-BA85-AD8F87FC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A3A97-B739-45AB-9A3B-F8A0D3CB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80980-C90C-422C-94D9-638C148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BA025-1085-4EB4-9E95-3568700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C2C21-E191-4A01-B0AD-69CE28D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51F7E-A4F9-4A30-903F-0E855AF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03A-EC4B-4776-BD6E-8DB605E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D06EC-BB26-4C9E-AF1D-908C0CBD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986B3-8A3C-44D7-8D18-0E5DC169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C735-FCED-4491-B805-18C14A2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533A1-B46A-4D96-AD2E-F5D6D5D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777F-8DC2-40B3-A0D6-87DC79A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28919-6F36-45F0-A2F0-DB717DBD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DCB61-DF94-4B9A-8005-4687A433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A2E56-8381-48D9-8ACF-33086C31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C6934-AF34-4B27-9797-928CF2C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08542-381E-4CC1-9316-440BBF04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C9CB15-497A-4D2B-98EB-232CBA1C1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BE1E29-BC68-4F07-AE36-CA7767DE5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192EB-D937-444C-828C-6437965FD7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201DD2-194E-4497-BFE0-2DEAA2F00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5F623D-6876-483D-9D04-539E935C4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A572F2-0304-4A1A-B8ED-B36FAA9787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786B46-B4D2-4D09-9AB0-A9BDD353F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B82302-46A6-4BF7-A0B6-4A5EC5FD7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BE01C8-90BA-490B-B878-0D4C85F82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F23872-C6DC-4473-8B50-528D0C5CB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AD8DCD-EC39-48E3-9CFC-5BC3DC604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D60362-329F-49E1-83F2-AE08EB64B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294200" y="2103480"/>
            <a:ext cx="75524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Show Me The Wonder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937080" y="141768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when I am weak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take me under your tender w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ell me that you will rescue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991080" y="142416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when I am st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take my hand as we walk al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always guide me away from w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37080" y="149400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what's beyo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lift us up to you one by 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re every tear, every shadow's g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989640" y="1836720"/>
            <a:ext cx="828216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2-16T05:24:35Z</dcterms:modified>
  <cp:revision>1573</cp:revision>
  <dc:subject/>
  <dc:title>Slide 1</dc:title>
</cp:coreProperties>
</file>